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52859-3C5C-42E6-919B-5EB69DC9CD6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CT verrijkend of ondoordacht inzetten</a:t>
            </a:r>
            <a:endParaRPr b="0" lang="en-US" sz="1200" spc="-1" strike="noStrike">
              <a:solidFill>
                <a:srgbClr val="000000"/>
              </a:solidFill>
              <a:latin typeface="Arial"/>
            </a:endParaRPr>
          </a:p>
        </p:txBody>
      </p:sp>
      <p:sp>
        <p:nvSpPr>
          <p:cNvPr id="1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228B-2D7D-40C8-94E1-DDF2B7B3D61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ubstitutie</a:t>
            </a:r>
            <a:endParaRPr b="0" lang="en-US" sz="1200" spc="-1" strike="noStrike">
              <a:solidFill>
                <a:srgbClr val="000000"/>
              </a:solidFill>
              <a:latin typeface="Arial"/>
            </a:endParaRPr>
          </a:p>
        </p:txBody>
      </p:sp>
      <p:sp>
        <p:nvSpPr>
          <p:cNvPr id="1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9808-310B-4D8D-A0BA-B086D8EB95A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ransitie</a:t>
            </a:r>
            <a:endParaRPr b="0" lang="en-US" sz="1200" spc="-1" strike="noStrike">
              <a:solidFill>
                <a:srgbClr val="000000"/>
              </a:solidFill>
              <a:latin typeface="Arial"/>
            </a:endParaRPr>
          </a:p>
        </p:txBody>
      </p:sp>
      <p:sp>
        <p:nvSpPr>
          <p:cNvPr id="1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D410-76C9-4257-9A79-52462783880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CT als doel of ICT als middel</a:t>
            </a:r>
            <a:endParaRPr b="0" lang="en-US" sz="1200" spc="-1" strike="noStrike">
              <a:solidFill>
                <a:srgbClr val="000000"/>
              </a:solidFill>
              <a:latin typeface="Arial"/>
            </a:endParaRPr>
          </a:p>
        </p:txBody>
      </p:sp>
      <p:sp>
        <p:nvSpPr>
          <p:cNvPr id="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B6E6-F300-490C-AC2B-C4D404074D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B654-DC65-4840-9348-BE3EDD99FCC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emkastjes in de les gebruik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16217-8B42-4433-9443-1C6A78C28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04FFB-263F-4EC1-A9F9-147DC7CFC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134B4-2935-4182-8F3E-8DFC5E605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D695A-2492-4058-B4A4-99608149E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FC680-37B1-4AF1-A2D9-A0070A2D9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DDCAA-A809-4C0C-A3D0-1A3864753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0381C-54C3-4AF5-A649-52F43CB56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DB0E1-2A75-473A-8D1D-DD2BEB82A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99140-F281-4756-9B34-FCAC00559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C1D31-91F9-4206-AE21-926260849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32671-7000-4E16-862C-2CA1503D0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2D0F4-5554-4C60-95A0-10F6CAFC9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B5C7-9F7F-4BC0-A917-5AA53879687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http://blog.wired.com/photos/uncategorized/2007/06/20/et_computer_kid_happy_surprised2.jpg"/>
          <p:cNvPicPr/>
          <p:nvPr/>
        </p:nvPicPr>
        <p:blipFill>
          <a:blip r:embed="rId1"/>
          <a:stretch/>
        </p:blipFill>
        <p:spPr>
          <a:xfrm>
            <a:off x="733320" y="857160"/>
            <a:ext cx="7058160" cy="510552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solidFill>
            <a:srgbClr val="ffffff">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ICT in de les</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solidFill>
            <a:srgbClr val="ffffff">
              <a:alpha val="70000"/>
            </a:srgbClr>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geven en begeleid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heoretische verkenning: 2 casussen (2)</a:t>
            </a: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 welke situatie wordt ICT op een verrijkende manier ingez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 welke leerprocesgerichte competenties werken de leerlin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lke ICT-competenties zet meester Jan 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asus 3</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is lente. Meester Jan geeft natuuronderwijs aan groep 6. Het gaat over lentebloemen. Op internet heeft meester Jan een pagina gevonden waarop afbeeldingen staan van verschillende lentebloemen. Op een werkblad heeft hij de afbeeldingen gezet. De leerlingen moeten de juiste namen erbij zien te vind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asus 4</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is lente. Meester Jan geeft natuuronderwijs aan groep 6. Het gaat over lentebloemen. De groep gaat naar buiten op zoek naar lentebloemen. De kinderen hebben fototoestellen meegenomen om de bloemen op de foto te zetten. Terug in de klas mogen de kinderen de foto’s in een PowerPoint zetten. Meester Jan heeft ook een internetpagina met informatie over lentebloemen klaargezet. Daar zoeken de leerlingen de juiste naam bij de foto en zetten die in de presentati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spreken</a:t>
            </a: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rrijk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erprocesgerichte competen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CT-competen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Afbeelding 3" descr="hoofden.jpg"/>
          <p:cNvPicPr/>
          <p:nvPr/>
        </p:nvPicPr>
        <p:blipFill>
          <a:blip r:embed="rId1"/>
          <a:stretch/>
        </p:blipFill>
        <p:spPr>
          <a:xfrm>
            <a:off x="4429080" y="3714840"/>
            <a:ext cx="4714920" cy="3143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gen</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 welke manier verrijkt ICT hier de 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 welke leerprocesgerichte vaardigheden werken de leerlin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lke ICT-competenties zet juf Yvonne in het tweede voorbeeld 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asus 5</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uf Yvonne geeft aan groep 7 een aardrijkskundeles. In de methode geeft ze de kinderen één voor één de beurt om een stukje van de tekst te lezen. Daarna bestuderen ze een afbeelding van een vulkaan waarbij alle onderdelen van de vulkaan zijn gezet. Na afloop van de les vraagt juf Yvonne aan de leerlingen wat de verschillende begrippen in de tekst beteken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asus 6</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uf Yvonne geeft aan groep 7 een aardrijkskundeles. Ze laat de leerlingen een filmpje zien, via de beamer, van een vulkaan die uitbarst. Daarna bekijken ze samen een animatie van een vulkaan waarbij stap voor stap de uitbarsting van een vulkaan wordt bekeken. Bij elke stap geeft de animatie een toelichting. Tot slot geeft juf Yvonne de kinderen een stuk tekst waarin alle stappen nog een keer op een rijtje staan. Als ze de tekst gelezen hebben stelt ze vragen om te kijken of ze het begrepen hebb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spreken</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rrijk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erprocesgerichte competen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CT-competen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Afbeelding 3" descr="hoofden.jpg"/>
          <p:cNvPicPr/>
          <p:nvPr/>
        </p:nvPicPr>
        <p:blipFill>
          <a:blip r:embed="rId1"/>
          <a:stretch/>
        </p:blipFill>
        <p:spPr>
          <a:xfrm>
            <a:off x="4429080" y="3714840"/>
            <a:ext cx="4714920" cy="314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Pabotool</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vullen: www.pabotool.n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doel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m inzicht te krijgen op je eigen ICT-competen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middel om te laten zien dat je kunt reflecte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ideeëngenerator (handleidinge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 de volgende keer invull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Zelf aan de slag</a:t>
            </a:r>
            <a:endParaRPr b="0" lang="en-US" sz="4400" spc="-1" strike="noStrike">
              <a:solidFill>
                <a:srgbClr val="000000"/>
              </a:solidFill>
              <a:latin typeface="Arial"/>
            </a:endParaRPr>
          </a:p>
        </p:txBody>
      </p:sp>
      <p:sp>
        <p:nvSpPr>
          <p:cNvPr id="8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chrijf ov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igen ideeën over ICT inzetten in je les in maximaal 10 zinnen. Zoek hierbij ook een passend beeld. </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p:txBody>
      </p:sp>
      <p:sp>
        <p:nvSpPr>
          <p:cNvPr id="89"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Afbeelding 5" descr="calameo.jpg"/>
          <p:cNvPicPr/>
          <p:nvPr/>
        </p:nvPicPr>
        <p:blipFill>
          <a:blip r:embed="rId1"/>
          <a:stretch/>
        </p:blipFill>
        <p:spPr>
          <a:xfrm>
            <a:off x="5000760" y="1357200"/>
            <a:ext cx="3359160" cy="471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komt aan bod?</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ader van ICT op de Pab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heoretische verke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raktische opdrac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lternatieven</a:t>
            </a:r>
            <a:endParaRPr b="0" lang="en-US" sz="4400" spc="-1" strike="noStrike">
              <a:solidFill>
                <a:srgbClr val="000000"/>
              </a:solidFill>
              <a:latin typeface="Arial"/>
            </a:endParaRPr>
          </a:p>
        </p:txBody>
      </p:sp>
      <p:pic>
        <p:nvPicPr>
          <p:cNvPr id="92" name="Tijdelijke aanduiding voor inhoud 3" descr="xtranormal.jpg"/>
          <p:cNvPicPr/>
          <p:nvPr/>
        </p:nvPicPr>
        <p:blipFill>
          <a:blip r:embed="rId1"/>
          <a:stretch/>
        </p:blipFill>
        <p:spPr>
          <a:xfrm>
            <a:off x="214200" y="1143000"/>
            <a:ext cx="4749840" cy="3903840"/>
          </a:xfrm>
          <a:prstGeom prst="rect">
            <a:avLst/>
          </a:prstGeom>
          <a:ln w="0">
            <a:noFill/>
          </a:ln>
        </p:spPr>
      </p:pic>
      <p:pic>
        <p:nvPicPr>
          <p:cNvPr id="93" name="Afbeelding 4" descr="voicethread.jpg"/>
          <p:cNvPicPr/>
          <p:nvPr/>
        </p:nvPicPr>
        <p:blipFill>
          <a:blip r:embed="rId2"/>
          <a:stretch/>
        </p:blipFill>
        <p:spPr>
          <a:xfrm>
            <a:off x="4824360" y="3357720"/>
            <a:ext cx="4319640" cy="3287520"/>
          </a:xfrm>
          <a:prstGeom prst="rect">
            <a:avLst/>
          </a:prstGeom>
          <a:ln w="0">
            <a:noFill/>
          </a:ln>
        </p:spPr>
      </p:pic>
      <p:sp>
        <p:nvSpPr>
          <p:cNvPr id="94" name="Rechthoek 5"/>
          <p:cNvSpPr/>
          <p:nvPr/>
        </p:nvSpPr>
        <p:spPr>
          <a:xfrm>
            <a:off x="25200" y="6072120"/>
            <a:ext cx="4972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ttp://voicethread.com/#ho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jdelijke aanduiding voor inhoud 3" descr="uitroepteken.jpg"/>
          <p:cNvPicPr/>
          <p:nvPr/>
        </p:nvPicPr>
        <p:blipFill>
          <a:blip r:embed="rId1"/>
          <a:stretch/>
        </p:blipFill>
        <p:spPr>
          <a:xfrm>
            <a:off x="0" y="357120"/>
            <a:ext cx="9166320" cy="615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jdelijke aanduiding voor inhoud 3" descr="vraagteken.jpg"/>
          <p:cNvPicPr/>
          <p:nvPr/>
        </p:nvPicPr>
        <p:blipFill>
          <a:blip r:embed="rId1"/>
          <a:stretch/>
        </p:blipFill>
        <p:spPr>
          <a:xfrm>
            <a:off x="-127080" y="285840"/>
            <a:ext cx="9485280" cy="629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lik op de toekomst?</a:t>
            </a:r>
            <a:endParaRPr b="0" lang="en-US" sz="4400" spc="-1" strike="noStrike">
              <a:solidFill>
                <a:srgbClr val="000000"/>
              </a:solidFill>
              <a:latin typeface="Arial"/>
            </a:endParaRPr>
          </a:p>
        </p:txBody>
      </p:sp>
      <p:pic>
        <p:nvPicPr>
          <p:cNvPr id="55" name="Picture 4" descr="augmented reality"/>
          <p:cNvPicPr/>
          <p:nvPr/>
        </p:nvPicPr>
        <p:blipFill>
          <a:blip r:embed="rId1"/>
          <a:stretch/>
        </p:blipFill>
        <p:spPr>
          <a:xfrm>
            <a:off x="1523880" y="2028960"/>
            <a:ext cx="6096240" cy="366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Kader van ICT op de Pabo</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gangspu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CT is een middel om het leren van kinderen te verrijken, ondersteunen en te verbred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CT integreer je in je lesgev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kracht van ICT zie je pas als je weet wat en hoe leerlingen ler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heoretische verkenning: twee casussen</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es de twee casuss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ef commentaar hierop met behulp van de literatuur: bladzijde 8 tot en met 12.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bruik hierbij de termen: soorten doelen, leerlijnen en ICT-kerndoe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oppel terug aan het ka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 tweetallen overleggen en vastleg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asus 1</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mij op school leren leerlingen in groep 2 hoe ze de computer aan moeten zetten, in groep 3 leren ze hoe ze een bestand in Paint kunnen opslaan, in groep 4 leren de kinderen typen in WORD, in groep 5 mogen de kinderen een foto maken met de digitale camera, in groep 6 oefenen kinderen hoe je een plaatje in PowerPoint invoegt, in groep 7 leren ze, hoe je in Excel een formule kunt maken en in groep 8 kijken we hoe een internetbrowser werk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asus 2</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ij mij op school zijn de leerlingen in groep 2 bezig met hun eigen letter. Met de digitale fotocamera maken ze een boek met foto´s van voorwerpen die beginnen met hun eigen letter. In groep 3 werken kinderen samen aan een digitaal beeldverhaal. In groep 4 hebben de leerlingen een eigen krant op de computer gemaakt. De juf zet die op internet. In groep 5 maken de leerlingen een presentatie over hun favoriete boek. Dit doen ze in PowerPoint. In groep 6 mailen de leerlingen van onze school met een school in België over de omgeving. In groep 7 maken de kinderen een website over vulkanen. En in groep 8 maken de kinderen een echte g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spreken</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rugkoppelen aan ka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t kun je zeggen ov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orten doel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erlijnen 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CT-kerndoelen</a:t>
            </a:r>
            <a:endParaRPr b="0" lang="en-US" sz="2800" spc="-1" strike="noStrike">
              <a:solidFill>
                <a:srgbClr val="000000"/>
              </a:solidFill>
              <a:latin typeface="Arial"/>
            </a:endParaRPr>
          </a:p>
        </p:txBody>
      </p:sp>
      <p:pic>
        <p:nvPicPr>
          <p:cNvPr id="66" name="Afbeelding 3" descr="hoofden.jpg"/>
          <p:cNvPicPr/>
          <p:nvPr/>
        </p:nvPicPr>
        <p:blipFill>
          <a:blip r:embed="rId1"/>
          <a:stretch/>
        </p:blipFill>
        <p:spPr>
          <a:xfrm>
            <a:off x="4429080" y="3714840"/>
            <a:ext cx="471492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4:39:06Z</dcterms:created>
  <dc:creator>Gerard Dummer</dc:creator>
  <dc:description/>
  <dc:language>en-US</dc:language>
  <cp:lastModifiedBy>Student</cp:lastModifiedBy>
  <dcterms:modified xsi:type="dcterms:W3CDTF">2009-02-12T15:20:48Z</dcterms:modified>
  <cp:revision>50</cp:revision>
  <dc:subject/>
  <dc:title>ICT in de les</dc:title>
</cp:coreProperties>
</file>